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3F5-BDD3-4F4C-AAC2-A08A85E3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580-2C5D-444F-8062-D89AC08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87B-F702-4A06-B09C-ADC1D45B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A9C-2B88-4996-81E1-2FF48025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4EF6-D10F-47C6-ADB8-F907FC49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91AA-E33F-4B79-902D-C118023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79D8-D094-40B1-B360-1CB4FC4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70C-4710-4D18-8E99-202CCA33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F135-2228-4178-B8F6-9F63AC0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EB2F-B72D-470B-85EC-2BA3ADDC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01E8-E2B5-4ACA-8BB4-41656F5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1AB-346F-4ABA-8133-DA1A0BC9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0E80-634A-4D77-B363-879CABE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53D2-9BD5-49DB-B109-B1DD766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AB2-B97D-4570-A3DD-B8124499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1D76-A14E-4A07-B289-B6C20722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B4DD-F95E-4044-BB3A-C38AF640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C43-B5B6-4B29-981A-905E30D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6F3-8A7D-43E4-8E49-7A3A38C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9EB-379E-45DA-92F6-121E961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A96-5C7B-43FB-93CB-A48AAE01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CF4-6CE1-423B-A532-F5CD814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A8D-E19B-40B7-92D3-95EAA44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3B8-99F5-4088-B326-5FA17ACC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C47-7757-47BD-9D6D-908DCDB03AF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C060-3AD3-436C-B70F-B6B759493FD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38080" y="3276720"/>
            <a:ext cx="7239240" cy="1523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 PESQUISA E LAV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DE ÁGUAS MINERAIS E POTÁVEIS DE M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Times New Roman"/>
              </a:rPr>
              <a:t>ROTEIRO DE PROCED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7880" y="55054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anuel Teixeira de Queir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67652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“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ão encontrei o mundo deserto quando vim a ele : meus pais plantaram para mim antes que eu nascesse. Eu plantarei para os que vierem depois de mim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(Talmu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480" y="48006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OBRIG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2840" y="590544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manuel@dnpm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352680"/>
            <a:ext cx="7772400" cy="3124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Pesquisa e Lavra de  Água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pesquisa e lavra de água mineral e potável de mes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umo humano, bem como destinada a fins balneári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r-se-ão pelos Regimes de Autorização de Pesquisa 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cessão de Lavra, conforme previstos no Códig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eração, bem como  no Código de Águas Minera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ectivos regulamentos e legislações correla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lement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Códigos de Mineração, de Águas Minerais e Legislação Correlat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00200"/>
            <a:ext cx="876312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.1.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querimento de Autorização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Apresentação ao DNPM d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Requerimento para Auto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 Pesquisa Mineral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no qual se exig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Formulário Padronizado de Requerim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2 - Plano de Pesquisa (Manual do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3 - Planta de Localização da Área Pretendida (50 hectar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Manual de Procedimento e Formulário de Autorização -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4920" y="49528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equer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Indeferim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Exigência /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Alvará de Pesqui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80880" y="609480"/>
            <a:ext cx="8382240" cy="5105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Trabalhos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1 - Estudos Técnicos para o Relatório Final de Pesqui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 - Estud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n loc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1 - Análise Química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2 - Análise Química dos Gases espontân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3 - Análise Bacteri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4 - Determinação da Água ao Emerg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5 - Determinação da Temper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6 - Determinação da Vaz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7 - Dosagem de Elementos Químicos Alteráve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rasil1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526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 - Estudo da Área de Proteção da Fo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1 - Caracterização Hidrológica e Cli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2 - Características Hidroge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3 - Características Hidroquí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4 - Caracterização do Uso do Solo e das Águ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ontes atuais  e potenciais de polui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5 - Análise das Possibilidades de ontami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as Fontes e Grau de Vulner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6 - Definição das Áreas de Proteção da Fon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Relatório Final de Pesquisa e do Estudo da Área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F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1 - Não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2 - Exigência/Aprovação (Classificação da Á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 Análise Técnica do Estudo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.2 - Exigência/Aprovação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rasil1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304920" y="380880"/>
            <a:ext cx="838188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ao DNPM do Plano de Aproveitamento Econ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mico (PAE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), no qual se exig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Projeto Técnico e Industrial - Plano de Explo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Estudo de viabilidade econômica do empreendimen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Mapas e Plantas das edificações e das instalações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ptação e de envas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PAE, precedida de vistoria </a:t>
            </a: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in lo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Exigênc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Portaria de Lavra), com poligonal da Área de Prot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brasil1" descr=""/>
          <p:cNvPicPr/>
          <p:nvPr/>
        </p:nvPicPr>
        <p:blipFill>
          <a:blip r:embed="rId6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85800"/>
            <a:ext cx="8001000" cy="6094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Modelo de Rótul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(Port. 470/99 do 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 Resolução 54 da ANVS/M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Modelo de Ró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1 - Exig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Rótulo Aprovad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r análise bacteriológica para iniciar o proces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envasamen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I - FASE DA FISCALIZAÇÃO DA LAVR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Códigos de Mineração e de Águas Minerais e 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rrelata no âmbito do MME e do 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600200"/>
          <a:ext cx="815364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5364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685800"/>
            <a:ext cx="9144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ncessões de Lav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Água Mineral e Água Potável de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90720" y="2517840"/>
          <a:ext cx="7010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7010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60948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ffffff"/>
                </a:solidFill>
                <a:uFillTx/>
                <a:latin typeface="Times New Roman"/>
              </a:rPr>
              <a:t>Classificação Segundo o Código de Águas Minera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m - potável de mesa; fl – fluoretada; rd – radioativa; tm – termal; Ab – alcalino-bicarbonatada; at – alcalino-terrosa; cg – carbogasosa; Gf – gasosa-ferruginosa-magnesiana-alcalina; sf – sulfurosa; Bs – bicarbonatada sullfurosa; lt – litinada; sft - sulfata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20:26:40Z</dcterms:created>
  <dc:creator>DNPM</dc:creator>
  <dc:description/>
  <dc:language>en-US</dc:language>
  <cp:lastModifiedBy>emanuel.queiroz</cp:lastModifiedBy>
  <cp:lastPrinted>2000-05-18T15:13:56Z</cp:lastPrinted>
  <dcterms:modified xsi:type="dcterms:W3CDTF">2005-10-24T10:39:48Z</dcterms:modified>
  <cp:revision>302</cp:revision>
  <dc:subject/>
  <dc:title>Normas Regulamentares de Mineração</dc:title>
</cp:coreProperties>
</file>